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70C-E3D9-4475-BF03-FB5626CE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9CAC-5A80-49A9-80FD-5CB3D674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9F23-0A5B-4A33-8F49-FCBCC4D5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493-9523-4B89-8D05-415B4004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AD2-200D-4169-BB40-F8C47D90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CA7E-6B73-4E9B-BB74-38DB5665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A69-E14F-475D-B8A6-1E20338B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F385-D3D0-4E88-BEC6-A05BA87E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322-F8F7-4495-B40B-49E34FBC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B2F-DD8A-410A-BB0D-96B0ED5B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B335-BFB3-4102-A12E-252A8A86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427-0F33-4B09-BA45-89C4C219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04EA-133F-4971-B030-4581051BD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geocities.com/myttsite/TPBoard.jpg"/>
          <p:cNvPicPr/>
          <p:nvPr/>
        </p:nvPicPr>
        <p:blipFill>
          <a:blip r:embed="rId1"/>
          <a:stretch/>
        </p:blipFill>
        <p:spPr>
          <a:xfrm>
            <a:off x="857160" y="857160"/>
            <a:ext cx="734400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928800" y="642960"/>
          <a:ext cx="7572240" cy="5786280"/>
        </p:xfrm>
        <a:graphic>
          <a:graphicData uri="http://schemas.openxmlformats.org/drawingml/2006/table">
            <a:tbl>
              <a:tblPr/>
              <a:tblGrid>
                <a:gridCol w="757080"/>
                <a:gridCol w="757440"/>
                <a:gridCol w="757080"/>
                <a:gridCol w="757080"/>
                <a:gridCol w="757440"/>
                <a:gridCol w="757080"/>
                <a:gridCol w="757440"/>
                <a:gridCol w="757080"/>
                <a:gridCol w="757440"/>
                <a:gridCol w="7570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71840" y="3286080"/>
            <a:ext cx="555480" cy="153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 rot="20613000">
            <a:off x="7489440" y="2317320"/>
            <a:ext cx="596880" cy="2506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5000760" y="1000080"/>
            <a:ext cx="1323720" cy="2806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4"/>
          <a:stretch/>
        </p:blipFill>
        <p:spPr>
          <a:xfrm>
            <a:off x="2500200" y="1357200"/>
            <a:ext cx="1817640" cy="70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5"/>
          <a:stretch/>
        </p:blipFill>
        <p:spPr>
          <a:xfrm rot="19450800">
            <a:off x="3830760" y="4776480"/>
            <a:ext cx="2117520" cy="825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6"/>
          <a:stretch/>
        </p:blipFill>
        <p:spPr>
          <a:xfrm>
            <a:off x="1000080" y="1214280"/>
            <a:ext cx="58572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8:25:08Z</dcterms:created>
  <dc:creator> </dc:creator>
  <dc:description/>
  <dc:language>en-US</dc:language>
  <cp:lastModifiedBy> </cp:lastModifiedBy>
  <dcterms:modified xsi:type="dcterms:W3CDTF">2008-10-09T08:40:21Z</dcterms:modified>
  <cp:revision>2</cp:revision>
  <dc:subject/>
  <dc:title>Slide 1</dc:title>
</cp:coreProperties>
</file>